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3.jpeg" ContentType="image/jpeg"/>
  <Override PartName="/ppt/media/image12.png" ContentType="image/png"/>
  <Override PartName="/ppt/media/image3.png" ContentType="image/png"/>
  <Override PartName="/ppt/media/image11.wmf" ContentType="image/x-wmf"/>
  <Override PartName="/ppt/media/image20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9.wmf" ContentType="image/x-wmf"/>
  <Override PartName="/ppt/media/image34.wmf" ContentType="image/x-wmf"/>
  <Override PartName="/ppt/media/image13.png" ContentType="image/png"/>
  <Override PartName="/ppt/media/image30.wmf" ContentType="image/x-wmf"/>
  <Override PartName="/ppt/media/image33.jpeg" ContentType="image/jpeg"/>
  <Override PartName="/ppt/media/image7.gif" ContentType="image/gif"/>
  <Override PartName="/ppt/media/image32.jpeg" ContentType="image/jpeg"/>
  <Override PartName="/ppt/media/image6.wmf" ContentType="image/x-wmf"/>
  <Override PartName="/ppt/media/image29.wmf" ContentType="image/x-wmf"/>
  <Override PartName="/ppt/media/image4.png" ContentType="image/png"/>
  <Override PartName="/ppt/media/image2.png" ContentType="image/png"/>
  <Override PartName="/ppt/media/image22.gif" ContentType="image/gif"/>
  <Override PartName="/ppt/media/image31.wmf" ContentType="image/x-wmf"/>
  <Override PartName="/ppt/media/image1.wmf" ContentType="image/x-wmf"/>
  <Override PartName="/ppt/media/image16.wmf" ContentType="image/x-wmf"/>
  <Override PartName="/ppt/media/image24.wmf" ContentType="image/x-wmf"/>
  <Override PartName="/ppt/media/image28.gif" ContentType="image/gif"/>
  <Override PartName="/ppt/media/image17.wmf" ContentType="image/x-wmf"/>
  <Override PartName="/ppt/media/image18.gif" ContentType="image/gif"/>
  <Override PartName="/ppt/media/image14.jpeg" ContentType="image/jpeg"/>
  <Override PartName="/ppt/media/image15.wmf" ContentType="image/x-wmf"/>
  <Override PartName="/ppt/media/image19.gif" ContentType="image/gif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E587-8C42-43C0-A545-118AFA16A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CBB4-3ADD-42B0-B9F0-E3BE1658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29DA-4FAC-47B9-9CD8-FD309C117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F6FA-E0DC-4871-BD6C-9798C5982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C53E-4ED1-4A6D-8000-1DF400B59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02D8-6AB3-4C4D-BF26-A97AEFAE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E67D-6F8B-4BDE-8C75-F6F03900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56C5-260D-4A35-8924-F6FE6EC9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3062-5E1D-4D43-BE4E-1C12B9FF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53B5-0E75-4B38-B2A9-5E3A0FD9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1B67-BD37-4CCE-9A51-6D2BB49D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3EF4-5A42-416A-90C4-10924262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6A3C-1C07-42EE-A957-6273D061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3655-B8C3-4087-A7FD-C59E031E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FC23-3DA6-47D4-8EDB-0E873E1B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AEDE-0ACF-4625-BEC4-35E3383F5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6313-5EB9-417C-A107-619E0F85D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A509-1F1C-49CC-8E8D-BBDE4CC3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1EF8-AB8F-4D1C-B5D1-493576E3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B7A1-F3C9-409B-971C-033EAEB1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2643-48E3-4C0F-A20E-B12F5BDC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6AF4-C7CA-415B-9CCE-9450C747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02CD-9AEA-40A4-BED8-42E3DDCE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96E7-E85E-4B3B-8BE0-3393D7D1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1C49-5DA0-4F79-B940-AA3248FE825B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E79B-9740-4C4B-BE25-24D4AFE3EC97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jpeg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8.gif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wmf"/><Relationship Id="rId6" Type="http://schemas.openxmlformats.org/officeDocument/2006/relationships/image" Target="../media/image31.wmf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10920" y="2349360"/>
            <a:ext cx="72738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Тема: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«Пища, которую мы едим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евиз: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 «Химики это те, кто действительно понимает мир!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.Полинг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700360" y="4410000"/>
            <a:ext cx="2303280" cy="244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6CCB-E7CB-47E8-83E1-8F57FA8D195F}" type="slidenum">
              <a:t>1</a:t>
            </a:fld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eb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25E4-1C54-4744-B31F-8C02525F7BAB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73720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20013"/>
                </a:solidFill>
                <a:latin typeface="Arial"/>
              </a:rPr>
              <a:t>Страница третья.</a:t>
            </a:r>
            <a:r>
              <a:rPr b="1" i="1" lang="en-US" sz="3600" spc="-1" strike="noStrike">
                <a:solidFill>
                  <a:srgbClr val="2f1311"/>
                </a:solidFill>
                <a:latin typeface="Arial"/>
              </a:rPr>
              <a:t> </a:t>
            </a:r>
            <a:br>
              <a:rPr sz="3600"/>
            </a:br>
            <a:r>
              <a:rPr b="1" i="1" lang="en-US" sz="3600" spc="-1" strike="noStrike">
                <a:solidFill>
                  <a:srgbClr val="e11f24"/>
                </a:solidFill>
                <a:latin typeface="Arial"/>
              </a:rPr>
              <a:t>«Вы нам писали…»</a:t>
            </a:r>
            <a:br>
              <a:rPr sz="3600"/>
            </a:br>
            <a:r>
              <a:rPr b="1" i="1" lang="en-US" sz="3600" spc="-1" strike="noStrike">
                <a:solidFill>
                  <a:srgbClr val="820013"/>
                </a:solidFill>
                <a:latin typeface="Arial"/>
              </a:rPr>
              <a:t>Отвечаем на письма наших читателей.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1727280" cy="1296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92720" y="5013360"/>
            <a:ext cx="1273320" cy="100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eb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43B4-4762-4AF0-88B4-C3E875797B2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73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11f24"/>
                </a:solidFill>
                <a:latin typeface="Arial"/>
              </a:rPr>
              <a:t>             </a:t>
            </a:r>
            <a:r>
              <a:rPr b="1" i="1" lang="en-US" sz="3600" spc="-1" strike="noStrike">
                <a:solidFill>
                  <a:srgbClr val="e11f24"/>
                </a:solidFill>
                <a:latin typeface="Arial"/>
              </a:rPr>
              <a:t>Воспользуйтесь                    следующими советами: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160" y="1557000"/>
            <a:ext cx="841212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14b3b"/>
                </a:solidFill>
                <a:latin typeface="Arial"/>
              </a:rPr>
              <a:t>Нитраты хорошо растворимы в воде, поэтому: свёклу, кабачки, картофель, капусту, тыкву и др. перед приготовлением необходимо </a:t>
            </a:r>
            <a:r>
              <a:rPr b="1" i="1" lang="en-US" sz="3200" spc="-1" strike="noStrike">
                <a:solidFill>
                  <a:srgbClr val="e11f24"/>
                </a:solidFill>
                <a:latin typeface="Arial"/>
              </a:rPr>
              <a:t>нарезать кубиками и 2-3 раза залить водой,</a:t>
            </a:r>
            <a:r>
              <a:rPr b="1" i="1" lang="en-US" sz="3200" spc="-1" strike="noStrike">
                <a:solidFill>
                  <a:srgbClr val="214b3b"/>
                </a:solidFill>
                <a:latin typeface="Arial"/>
              </a:rPr>
              <a:t> выдерживая по 5-10 мину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14b3b"/>
                </a:solidFill>
                <a:latin typeface="Arial"/>
              </a:rPr>
              <a:t>Варка овощей, квашение, соление уменьшает содержание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14b3b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214b3b"/>
                </a:solidFill>
                <a:latin typeface="Arial"/>
              </a:rPr>
              <a:t>нитратов, а сушка, наоборот, повышае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47800" cy="8953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6877080" y="4265640"/>
            <a:ext cx="1150920" cy="2592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893080" cy="619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91DA-CD9B-40D1-976C-FE66A7342C2B}" type="slidenum">
              <a:t>12</a:t>
            </a:fld>
          </a:p>
        </p:txBody>
      </p:sp>
    </p:spTree>
  </p:cSld>
  <p:transition>
    <p:wheel spokes="8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7386480" cy="57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Arial"/>
              </a:rPr>
              <a:t>Очищенный картофель лучше залить на сутки 1%-ной поваренной соли или аскорбиновой кислоты.</a:t>
            </a:r>
            <a:br>
              <a:rPr sz="3200"/>
            </a:br>
            <a:r>
              <a:rPr b="1" i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395280" y="2708280"/>
            <a:ext cx="3529080" cy="35272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4140360" y="2708280"/>
            <a:ext cx="3671640" cy="352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FF61-89E4-4AA0-B9E5-4C328C853806}" type="slidenum">
              <a:t>13</a:t>
            </a:fld>
          </a:p>
        </p:txBody>
      </p:sp>
    </p:spTree>
  </p:cSld>
  <p:transition>
    <p:wheel spokes="8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2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2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eb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1829-BA03-4ED3-AC84-C8CC71F70A33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263520" y="259920"/>
            <a:ext cx="42372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20013"/>
                </a:solidFill>
                <a:latin typeface="Arial"/>
              </a:rPr>
              <a:t>У </a:t>
            </a:r>
            <a:r>
              <a:rPr b="1" i="1" lang="en-US" sz="3600" spc="-1" strike="noStrike">
                <a:solidFill>
                  <a:srgbClr val="e11f24"/>
                </a:solidFill>
                <a:latin typeface="Arial"/>
              </a:rPr>
              <a:t>капусты </a:t>
            </a:r>
            <a:r>
              <a:rPr b="1" i="1" lang="en-US" sz="3600" spc="-1" strike="noStrike">
                <a:solidFill>
                  <a:srgbClr val="820013"/>
                </a:solidFill>
                <a:latin typeface="Arial"/>
              </a:rPr>
              <a:t>необходимо снимать верхние кроющие листья и выбрасывать кочерыжку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932360" cy="4797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40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4F79-BCDD-4611-A9D3-C27B51D768EA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722772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20013"/>
                </a:solidFill>
                <a:latin typeface="Arial"/>
              </a:rPr>
              <a:t>У </a:t>
            </a:r>
            <a:r>
              <a:rPr b="1" i="1" lang="en-US" sz="4000" spc="-1" strike="noStrike">
                <a:solidFill>
                  <a:srgbClr val="e11f24"/>
                </a:solidFill>
                <a:latin typeface="Arial"/>
              </a:rPr>
              <a:t>свёклы и </a:t>
            </a:r>
            <a:r>
              <a:rPr b="1" i="1" lang="en-US" sz="4000" spc="-1" strike="noStrike">
                <a:solidFill>
                  <a:srgbClr val="eb1d07"/>
                </a:solidFill>
                <a:latin typeface="Arial"/>
              </a:rPr>
              <a:t>моркови</a:t>
            </a:r>
            <a:r>
              <a:rPr b="1" i="1" lang="en-US" sz="4000" spc="-1" strike="noStrike">
                <a:solidFill>
                  <a:srgbClr val="e11f24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820013"/>
                </a:solidFill>
                <a:latin typeface="Arial"/>
              </a:rPr>
              <a:t>нужно       отрезать верхнюю и нижнюю часть корнеплода.</a:t>
            </a: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471920" y="1854360"/>
            <a:ext cx="4672080" cy="50036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 rot="21184800">
            <a:off x="6347880" y="4435200"/>
            <a:ext cx="2808360" cy="20876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1187280" y="3933720"/>
            <a:ext cx="2100600" cy="2519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5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 rot="5400000">
            <a:off x="-1170720" y="2367360"/>
            <a:ext cx="5184720" cy="28432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2916360" y="2016360"/>
            <a:ext cx="56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20013"/>
                </a:solidFill>
                <a:latin typeface="Arial"/>
              </a:rPr>
              <a:t>Нужно очищать </a:t>
            </a:r>
            <a:r>
              <a:rPr b="1" i="1" lang="en-US" sz="3600" spc="-1" strike="noStrike">
                <a:solidFill>
                  <a:srgbClr val="66ff99"/>
                </a:solidFill>
                <a:latin typeface="Arial"/>
              </a:rPr>
              <a:t>огурец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ce48c"/>
                </a:solidFill>
                <a:latin typeface="Arial"/>
              </a:rPr>
              <a:t>от кожицы и отрезать хвостик</a:t>
            </a:r>
            <a:r>
              <a:rPr b="1" lang="en-US" sz="3600" spc="-1" strike="noStrike">
                <a:solidFill>
                  <a:srgbClr val="8ce48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D96B-5A42-4D75-88F2-0FB9ABD5928A}" type="slidenum">
              <a:t>16</a:t>
            </a:fld>
          </a:p>
        </p:txBody>
      </p:sp>
    </p:spTree>
  </p:cSld>
  <p:transition>
    <p:wheel spokes="8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eb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868C-3FEF-44C4-A17C-1904925D86B9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eb1d07"/>
                </a:solidFill>
                <a:latin typeface="Arial"/>
              </a:rPr>
              <a:t>Имейте в виду, что…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63160" y="1268280"/>
            <a:ext cx="834084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b1d07"/>
                </a:solidFill>
                <a:latin typeface="Arial"/>
              </a:rPr>
              <a:t>а) самое высокое содержание нитратов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b1d07"/>
                </a:solidFill>
                <a:latin typeface="Arial"/>
              </a:rPr>
              <a:t>(в мг/кг) отмечается в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f1311"/>
                </a:solidFill>
                <a:latin typeface="Arial"/>
              </a:rPr>
              <a:t>свёкле (200-4500)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f1311"/>
                </a:solidFill>
                <a:latin typeface="Arial"/>
              </a:rPr>
              <a:t>капусте (600-3000)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f1311"/>
                </a:solidFill>
                <a:latin typeface="Arial"/>
              </a:rPr>
              <a:t>салате (400-2900)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f1311"/>
                </a:solidFill>
                <a:latin typeface="Arial"/>
              </a:rPr>
              <a:t>петрушке (1700-2500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6227640" y="4365720"/>
            <a:ext cx="2916360" cy="21589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6"/>
          <a:stretch/>
        </p:blipFill>
        <p:spPr>
          <a:xfrm>
            <a:off x="6300720" y="5456160"/>
            <a:ext cx="1224000" cy="14018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eb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0D3E-21EC-4DA5-90BD-F3EEECBE9865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263520" y="333000"/>
            <a:ext cx="4308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b1d07"/>
                </a:solidFill>
                <a:latin typeface="Arial"/>
              </a:rPr>
              <a:t>Наиболее низкое</a:t>
            </a: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eb1d07"/>
                </a:solidFill>
                <a:latin typeface="Arial"/>
              </a:rPr>
              <a:t>содержание нитратов в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луке репчатом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чесноке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зелёном горошке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томатах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5"/>
          <a:stretch/>
        </p:blipFill>
        <p:spPr>
          <a:xfrm>
            <a:off x="6156360" y="4383000"/>
            <a:ext cx="2987640" cy="2475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6"/>
          <a:stretch/>
        </p:blipFill>
        <p:spPr>
          <a:xfrm>
            <a:off x="4211640" y="5084640"/>
            <a:ext cx="1862280" cy="13320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7"/>
          <a:stretch/>
        </p:blipFill>
        <p:spPr>
          <a:xfrm>
            <a:off x="5003640" y="1484280"/>
            <a:ext cx="4140360" cy="53737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1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«Здоровье дороже золота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Шекспир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1486080" cy="14194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7008840" y="4626000"/>
            <a:ext cx="2135160" cy="223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CDFC-C678-43D2-874C-6FD829CC577A}" type="slidenum">
              <a:t>19</a:t>
            </a:fld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Страница № 1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f1311"/>
                </a:solidFill>
                <a:latin typeface="Arial"/>
              </a:rPr>
              <a:t>Что нужно знать, когда готовишь пищу и покупаешь продукт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24360" y="3716280"/>
            <a:ext cx="1351080" cy="187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AF15-CCE7-472C-A884-68AB6CE61BF4}" type="slidenum">
              <a:t>2</a:t>
            </a:fld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Е - Значе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8880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00-182.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2f1311"/>
                </a:solidFill>
                <a:latin typeface="Arial"/>
              </a:rPr>
              <a:t>Красители.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200-299.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2f1311"/>
                </a:solidFill>
                <a:latin typeface="Arial"/>
              </a:rPr>
              <a:t>Консерванты.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300-399.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2f1311"/>
                </a:solidFill>
                <a:latin typeface="Arial"/>
              </a:rPr>
              <a:t>Антиокислители.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400-499.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2f1311"/>
                </a:solidFill>
                <a:latin typeface="Arial"/>
              </a:rPr>
              <a:t>Стабилизаторы.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500-599.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2f1311"/>
                </a:solidFill>
                <a:latin typeface="Arial"/>
              </a:rPr>
              <a:t>Эмульгаторы.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600-699.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2f1311"/>
                </a:solidFill>
                <a:latin typeface="Arial"/>
              </a:rPr>
              <a:t>Усилители вкуса и аромат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900-999.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2f1311"/>
                </a:solidFill>
                <a:latin typeface="Arial"/>
              </a:rPr>
              <a:t>Пеногасители.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B104-9F65-4BCB-B11A-9D4307ED36BB}" type="slidenum">
              <a:t>3</a:t>
            </a:fld>
          </a:p>
        </p:txBody>
      </p:sp>
    </p:spTree>
  </p:cSld>
  <p:transition>
    <p:wheel spokes="8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eb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0FE0-2698-4CEB-AB70-5BB6ED3E84D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263160" y="476280"/>
            <a:ext cx="474012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11f24"/>
                </a:solidFill>
                <a:latin typeface="Arial"/>
              </a:rPr>
              <a:t>Колбаса бутербродная.</a:t>
            </a:r>
            <a:r>
              <a:rPr b="1" i="1" lang="en-US" sz="2800" spc="-1" strike="noStrike">
                <a:solidFill>
                  <a:srgbClr val="820013"/>
                </a:solidFill>
                <a:latin typeface="Arial"/>
              </a:rPr>
              <a:t> Производитель ОАО «Мясокомбинат Омский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11f24"/>
                </a:solidFill>
                <a:latin typeface="Arial"/>
              </a:rPr>
              <a:t>Е 250-</a:t>
            </a:r>
            <a:r>
              <a:rPr b="1" i="1" lang="en-US" sz="2800" spc="-1" strike="noStrike">
                <a:solidFill>
                  <a:srgbClr val="820013"/>
                </a:solidFill>
                <a:latin typeface="Arial"/>
              </a:rPr>
              <a:t> консервант, вызывает нарушение давления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11f24"/>
                </a:solidFill>
                <a:latin typeface="Arial"/>
              </a:rPr>
              <a:t>Е 450</a:t>
            </a:r>
            <a:r>
              <a:rPr b="1" i="1" lang="en-US" sz="2800" spc="-1" strike="noStrike">
                <a:solidFill>
                  <a:srgbClr val="820013"/>
                </a:solidFill>
                <a:latin typeface="Arial"/>
              </a:rPr>
              <a:t> – стабилизатор, вызывает расстройство желудка, поражает желудочно-кишечный тракт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651640" y="0"/>
            <a:ext cx="3492360" cy="35002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5867280" y="4292640"/>
            <a:ext cx="1649520" cy="1832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eb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CD97-D38A-462E-A41B-1887C7F123B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527800" y="260280"/>
            <a:ext cx="3616200" cy="33847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920" y="404280"/>
            <a:ext cx="51847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Напиток «Пепси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Производитель-(А) ООО «Пепси Интернешенел Боттлерс»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г. Екатеринбург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11f24"/>
                </a:solidFill>
                <a:latin typeface="Arial"/>
              </a:rPr>
              <a:t>Е 150 а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 – подозрительные пищевые добавки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11f24"/>
                </a:solidFill>
                <a:latin typeface="Arial"/>
              </a:rPr>
              <a:t>Е 338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 – вызывает расстройство желудк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6"/>
          <a:stretch/>
        </p:blipFill>
        <p:spPr>
          <a:xfrm>
            <a:off x="6300720" y="5089680"/>
            <a:ext cx="1500120" cy="1768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eb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9F16-F5F3-4882-96F6-6CF46465185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443640" y="1052640"/>
            <a:ext cx="2952720" cy="46083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511344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11f24"/>
                </a:solidFill>
                <a:latin typeface="Arial"/>
              </a:rPr>
              <a:t>Сыр плавленый «Президент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11f24"/>
                </a:solidFill>
                <a:latin typeface="Arial"/>
              </a:rPr>
              <a:t>Е 450</a:t>
            </a: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 – стабилизатор, вызывает расстройство желудка, поражает желудочно-кишечный тракт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11f24"/>
                </a:solidFill>
                <a:latin typeface="Arial"/>
              </a:rPr>
              <a:t>Е 339</a:t>
            </a: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 – антиокислитель, вызывает расстройство желудка, аллерген;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11f24"/>
                </a:solidFill>
                <a:latin typeface="Arial"/>
              </a:rPr>
              <a:t>Е 331</a:t>
            </a: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 – антиокислитель, вреден для кожи, аллерген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eb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978F-CC29-4534-BD8B-52BA7EA11F3A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63520" y="476280"/>
            <a:ext cx="50292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11f24"/>
                </a:solidFill>
                <a:latin typeface="Arial"/>
              </a:rPr>
              <a:t>Жевательная резинка «О</a:t>
            </a:r>
            <a:r>
              <a:rPr b="1" i="1" lang="en-US" sz="2800" spc="-1" strike="noStrike">
                <a:solidFill>
                  <a:srgbClr val="e11f24"/>
                </a:solidFill>
                <a:latin typeface="Arial"/>
              </a:rPr>
              <a:t>rbit</a:t>
            </a:r>
            <a:r>
              <a:rPr b="1" i="1" lang="ru-RU" sz="2800" spc="-1" strike="noStrike">
                <a:solidFill>
                  <a:srgbClr val="e11f24"/>
                </a:solidFill>
                <a:latin typeface="Arial"/>
              </a:rPr>
              <a:t>»,</a:t>
            </a:r>
            <a:r>
              <a:rPr b="1" i="1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311"/>
                </a:solidFill>
                <a:latin typeface="Arial"/>
              </a:rPr>
              <a:t>ООО «Ригли», Санкт – Петербург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11f24"/>
                </a:solidFill>
                <a:latin typeface="Arial"/>
              </a:rPr>
              <a:t>Е 171, Е 322, Е 320</a:t>
            </a:r>
            <a:r>
              <a:rPr b="1" i="1" lang="ru-RU" sz="2800" spc="-1" strike="noStrike">
                <a:solidFill>
                  <a:srgbClr val="2f1311"/>
                </a:solidFill>
                <a:latin typeface="Arial"/>
              </a:rPr>
              <a:t> – вызывают болезни печени и почек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4932360" y="2133720"/>
            <a:ext cx="4211640" cy="2736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eb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2581-C6FC-41D4-B31F-FA6DC245C26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640480" y="949320"/>
            <a:ext cx="3616200" cy="301464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507672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11f24"/>
                </a:solidFill>
                <a:latin typeface="Arial"/>
              </a:rPr>
              <a:t>Куриный бульон «М</a:t>
            </a:r>
            <a:r>
              <a:rPr b="1" i="1" lang="en-US" sz="2800" spc="-1" strike="noStrike">
                <a:solidFill>
                  <a:srgbClr val="e11f24"/>
                </a:solidFill>
                <a:latin typeface="Arial"/>
              </a:rPr>
              <a:t>aggi</a:t>
            </a:r>
            <a:r>
              <a:rPr b="1" i="1" lang="ru-RU" sz="2800" spc="-1" strike="noStrike">
                <a:solidFill>
                  <a:srgbClr val="e11f24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11f24"/>
                </a:solidFill>
                <a:latin typeface="Arial"/>
              </a:rPr>
              <a:t>Глютамат, иносинат гуанилат натрия –</a:t>
            </a:r>
            <a:r>
              <a:rPr b="1" i="1" lang="ru-RU" sz="2800" spc="-1" strike="noStrike">
                <a:solidFill>
                  <a:srgbClr val="2f1311"/>
                </a:solidFill>
                <a:latin typeface="Arial"/>
              </a:rPr>
              <a:t> вызывают болезни желудочно-кишечного тракта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11f24"/>
                </a:solidFill>
                <a:latin typeface="Arial"/>
              </a:rPr>
              <a:t>Е 330</a:t>
            </a:r>
            <a:r>
              <a:rPr b="1" i="1" lang="ru-RU" sz="2800" spc="-1" strike="noStrike">
                <a:solidFill>
                  <a:srgbClr val="2f1311"/>
                </a:solidFill>
                <a:latin typeface="Arial"/>
              </a:rPr>
              <a:t> – особенно опасен, вызывает злокачественные опухол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5435640" y="5157720"/>
            <a:ext cx="1873080" cy="1224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Страница № 2. </a:t>
            </a:r>
            <a:br>
              <a:rPr sz="36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рактическое занятие.</a:t>
            </a:r>
            <a:br>
              <a:rPr sz="2800"/>
            </a:b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3640" y="1887480"/>
            <a:ext cx="841212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Тема: «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Пищевые добавки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Цель:</a:t>
            </a: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 научиться расшифровывать коды пищевых добавок (с индексом Е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Задачи:</a:t>
            </a: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 провести расшифровку кодов предложенных вам этикеток пищевых продуктов и сделать вывод о целесообразности применения данного продукта, учитывая их влияние на организ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093080" y="5003640"/>
            <a:ext cx="1785960" cy="185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6A4F-56A2-439B-859C-43B64FAB30E1}" type="slidenum">
              <a:t>9</a:t>
            </a:fld>
          </a:p>
        </p:txBody>
      </p:sp>
    </p:spTree>
  </p:cSld>
  <p:transition>
    <p:wheel spokes="8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3:44:09Z</dcterms:created>
  <dc:creator>Наташа</dc:creator>
  <dc:description/>
  <dc:language>en-US</dc:language>
  <cp:lastModifiedBy>Малышева</cp:lastModifiedBy>
  <dcterms:modified xsi:type="dcterms:W3CDTF">2011-01-26T17:51:45Z</dcterms:modified>
  <cp:revision>36</cp:revision>
  <dc:subject/>
  <dc:title>Устный журнал</dc:title>
</cp:coreProperties>
</file>